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E032-D114-4E0B-850C-47621F747B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2E8B-1C4C-4128-A1F3-6922368D24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879-DFDE-4887-9472-31E17A6D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BA8-2DA2-4A65-9E12-09BC07A5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AE9-0F13-45DF-AECA-2003ED0F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116-DEF4-40CB-A61B-BF7ECD25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3A7-5CB6-45CC-BE34-B1DA4C0D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B27-620F-4512-8929-A558E682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D9F-10EF-418E-AE5F-92B191A1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E34-1A5A-4531-92A6-1831DD8E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565-F40B-43CA-8E09-2788C932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185-C64C-43AE-A6E1-2CD4E6AB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FFF-9BB2-4817-9813-C86FD489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7F6-E73F-4E20-8B05-1835B321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BDD6-88E0-4999-85F5-76F9DF49F11E}" type="slidenum">
              <a:rPr b="0" lang="ja-JP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26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ＯＨＢＹカードを素材とした演習</a:t>
            </a: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-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カードの演習と職業理解</a:t>
            </a:r>
            <a:br>
              <a:rPr sz="4000"/>
            </a:br>
            <a:br>
              <a:rPr sz="4000"/>
            </a:b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大学等でのキャリア教育プログラム（活用案）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２コマ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7164360" y="333360"/>
            <a:ext cx="1511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Ａ－７資料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7164360" y="765000"/>
            <a:ext cx="1511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Ａ－８資料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7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．演習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7-1.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全体の分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机の上に分類のカードを並べ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選択する、選択しない、考え中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絵や写真の方を上にして、トランプのようによく切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絵や写真の方をみながら、３つのグループに分類。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できるだけ絵や写真に表されている仕事だけをみて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注意：「おもて面」をみて、どんな仕事かわからないと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裏返して職業名をみてもよ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7-2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．分類の記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記録シートを使って、分けたカードを記録す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「選択する」、「考え中」、「選択しない」の分類カードごとに○をつけ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0000"/>
                </a:solidFill>
                <a:latin typeface="Calibri"/>
              </a:rPr>
              <a:t>注意：基本方法では、個別職業についての記録用紙を使わないが、キャリア教育プログラムで実施する場合には、２コマ目で振り返りをするため、記録しておく。記録用紙は別途、用意しておくが、手引き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18-P19</a:t>
            </a:r>
            <a:r>
              <a:rPr b="0" lang="ja-JP" sz="2200" spc="-1" strike="noStrike">
                <a:solidFill>
                  <a:srgbClr val="ff0000"/>
                </a:solidFill>
                <a:latin typeface="Calibri"/>
              </a:rPr>
              <a:t>のカウンセラーシートのようなイメージ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職業カード分析シートの第１セッションの欄に記入する（各選択のカードの枚数を数えて記入）（手引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12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-7-3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．分類の解釈　①「選択しないカード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「選択しない」に分類されたカード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を使う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その職業を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選ばなかった理由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を考えて、理由が似ているカードを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小さいグループにまとめていく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グループができたら、「職業カード分析シート」の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第２セッション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を行う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各グループのカード番号を書き留め、選択しない理由を書き留める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裏返して、興味領域や産業ごとに色の枚数を確認する。（どんな色が多かったのか？）。領域や産業の内容は説明書で確認する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自分は、どんな仕事を選択しないのかを考えて、まとめる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記入の例（「選択しない」カードのグループ別解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98064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１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9,7,13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道具や機械を使って作業する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２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,20,45,33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戸外での活動・動物を扱う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３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,47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運転する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４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,35,8,38,1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才能が必要な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５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,17,24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医療関係の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６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1,30,34,37,39,41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人の世話をする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７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,18,46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カウンターで接客の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８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,25,36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販売の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９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,23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いろいろな場所に行って大勢の人と関わる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◆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まとめ：人と関わる仕事、外で身体を動かす仕事、機械を扱う仕事は選択しないことがわかった。色では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７枚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６枚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枚）　全部で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1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-7-4.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分類の解釈　②「選択する」カー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「選択する」に分類されたカード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を使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選択したカードに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共通の特徴を考え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カードのうち、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最も好きなカードから順番に５つの職業を選んで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順位をつけ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選んだら順番にカード番号を書き留め、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選択した理由を書き留め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裏返して、興味領域や産業ごとに色の枚数を確認する。（どんな色が多かったのか？）。領域や産業の内容は説明書で確認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自分は、どんな仕事を選択したのかを考えて、まとめ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記入例：「選択する」カードの順位付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選択したカー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順位：理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１位：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42</a:t>
            </a: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（自分のペースで仕事ができそう）　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２位：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28</a:t>
            </a: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（同上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３位：５（研究のような仕事はやってみたいから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４位：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19</a:t>
            </a: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（静かな環境で落ち着いてできる仕事のような気がするから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５位：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16</a:t>
            </a: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（同上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そのほか：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22,26,2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◆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まとめ：共通点はデスクワークであること、データや情報を扱うこと（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１枚、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１枚、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２枚）　全部で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枚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-8.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「職業カード分析シート」の第３セッション（手引き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.13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）に記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「選択した職業」と「選択しなかった職業」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職業興味の違いを比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次回のワークに向けた準備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次回の時間までに、職業について調べてくる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①選択した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位までの職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②「考え中」となった職業の中から好き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　　ものを３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・「セッションの後で」の欄に感想を記入す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632720" cy="2089080"/>
          </a:xfrm>
          <a:prstGeom prst="rect">
            <a:avLst/>
          </a:prstGeom>
          <a:noFill/>
          <a:ln w="57240">
            <a:solidFill>
              <a:srgbClr val="00b050"/>
            </a:solidFill>
            <a:prstDash val="lgDash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２．職業理解のセッション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カードの続き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コマ目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-1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グループワークの導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グループの作成（３～４人のグループを作る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グループワーク作業の目的、やり方について説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目的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カードの実習で選ばれた職業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  ついての情報を交換して、理解を深め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やり方：お互いの意見をよく聞く。説明を聞い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  たら、質問あるいは、何らかのコメントを返す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  ようにす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-2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グループワークの実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準備：記録用紙を配る。グループメンバーの学年、氏名、所属を記入。職業名とそれぞれに関するメモがとれるようになってい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調べてきた職業のうち、発表するための２つを選ぶ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グループ内での発表の順番を決め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発表の際に、発表する職業のカードを用意す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職業について調べたことを話す前に、どうして、この職業を選択したのかを簡単に説明す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職業について調べてきたことを説明す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一人分の発表が終わったら、皆で意見交換をす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最後にグループワークの振り返りをす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記録用紙に感想をまとめて、提出してもらう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4f81bd"/>
                </a:solidFill>
                <a:latin typeface="Calibri"/>
              </a:rPr>
              <a:t>プログラムの概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1557000"/>
            <a:ext cx="4140000" cy="453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カードを使った演習のセッショ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分間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１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カードと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２．演習の目的とやり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方の解説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３．演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４．まと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3"/>
          <p:cNvSpPr/>
          <p:nvPr/>
        </p:nvSpPr>
        <p:spPr>
          <a:xfrm>
            <a:off x="4788000" y="1557360"/>
            <a:ext cx="4140000" cy="453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職業理解のセッション（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分間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１．グループワークの導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入（グループの作成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など）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２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カードの分類の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振り返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３．職業調べの発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４．まと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1-1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．</a:t>
            </a: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OHBY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カードと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海外で発達した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職業カードソート技法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参考として、日本でのキャリアガイダンス向けのツールとして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年に開発されたカードソート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職業ハンドブック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HB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（中学生、高校生向けの職業情報ツール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-ROM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提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用いられた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絵や写真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活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1-2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．職業カードソート法と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もともとは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カウンセリング場面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活用する道具（</a:t>
            </a:r>
            <a:r>
              <a:rPr b="0" lang="ja-JP" sz="3200" spc="-1" strike="noStrike">
                <a:solidFill>
                  <a:srgbClr val="0070c0"/>
                </a:solidFill>
                <a:latin typeface="Calibri"/>
              </a:rPr>
              <a:t>職業カードソート技法）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として発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96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年代～　欧米で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le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個人を区別する時にそれぞれの人物を特徴づけるものは何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人の個性の核となる部分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は、個人が行う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選択の内容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選択したものを構造化する方法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によって見いだされる。→分類とそれについての解釈から個人を理解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．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カードの特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分類材料として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絵や写真を活用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しており、海外で開発されたテキスト情報のみの形式より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親しみやすい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職業情報の具体的なイメージ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提供でき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カードの分類と分類結果の解釈のみを行えばよいので、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実施と整理が簡単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にでき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正方形/長方形 7" descr=""/>
          <p:cNvPicPr/>
          <p:nvPr/>
        </p:nvPicPr>
        <p:blipFill>
          <a:blip r:embed="rId1"/>
          <a:stretch/>
        </p:blipFill>
        <p:spPr>
          <a:xfrm>
            <a:off x="1689120" y="208080"/>
            <a:ext cx="5467320" cy="925560"/>
          </a:xfrm>
          <a:prstGeom prst="rect">
            <a:avLst/>
          </a:prstGeom>
          <a:ln w="0">
            <a:noFill/>
          </a:ln>
        </p:spPr>
      </p:pic>
      <p:pic>
        <p:nvPicPr>
          <p:cNvPr id="61" name="図 2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7434360" cy="4489560"/>
          </a:xfrm>
          <a:prstGeom prst="rect">
            <a:avLst/>
          </a:prstGeom>
          <a:ln w="0">
            <a:noFill/>
          </a:ln>
        </p:spPr>
      </p:pic>
      <p:grpSp>
        <p:nvGrpSpPr>
          <p:cNvPr id="62" name="テキスト ボックス 3"/>
          <p:cNvGrpSpPr/>
          <p:nvPr/>
        </p:nvGrpSpPr>
        <p:grpSpPr>
          <a:xfrm>
            <a:off x="1884240" y="5718240"/>
            <a:ext cx="2419560" cy="847800"/>
            <a:chOff x="1884240" y="5718240"/>
            <a:chExt cx="2419560" cy="847800"/>
          </a:xfrm>
        </p:grpSpPr>
        <p:pic>
          <p:nvPicPr>
            <p:cNvPr id="63" name="テキスト ボックス 3" descr=""/>
            <p:cNvPicPr/>
            <p:nvPr/>
          </p:nvPicPr>
          <p:blipFill>
            <a:blip r:embed="rId3"/>
            <a:stretch/>
          </p:blipFill>
          <p:spPr>
            <a:xfrm>
              <a:off x="1884240" y="5718240"/>
              <a:ext cx="24195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124000" y="595800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おもて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テキスト ボックス 10"/>
          <p:cNvGrpSpPr/>
          <p:nvPr/>
        </p:nvGrpSpPr>
        <p:grpSpPr>
          <a:xfrm>
            <a:off x="5486400" y="5718240"/>
            <a:ext cx="2419200" cy="841320"/>
            <a:chOff x="5486400" y="5718240"/>
            <a:chExt cx="2419200" cy="841320"/>
          </a:xfrm>
        </p:grpSpPr>
        <p:pic>
          <p:nvPicPr>
            <p:cNvPr id="66" name="テキスト ボックス 10" descr=""/>
            <p:cNvPicPr/>
            <p:nvPr/>
          </p:nvPicPr>
          <p:blipFill>
            <a:blip r:embed="rId4"/>
            <a:stretch/>
          </p:blipFill>
          <p:spPr>
            <a:xfrm>
              <a:off x="5486400" y="5718240"/>
              <a:ext cx="2419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724360" y="59547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うら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四角形吹き出し 4"/>
          <p:cNvSpPr/>
          <p:nvPr/>
        </p:nvSpPr>
        <p:spPr>
          <a:xfrm>
            <a:off x="5724360" y="5832360"/>
            <a:ext cx="1943280" cy="612720"/>
          </a:xfrm>
          <a:prstGeom prst="wedgeRectCallout">
            <a:avLst>
              <a:gd name="adj1" fmla="val -18902"/>
              <a:gd name="adj2" fmla="val -10942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四角形吹き出し 11"/>
          <p:cNvSpPr/>
          <p:nvPr/>
        </p:nvSpPr>
        <p:spPr>
          <a:xfrm>
            <a:off x="2124000" y="5850000"/>
            <a:ext cx="1943280" cy="612720"/>
          </a:xfrm>
          <a:prstGeom prst="wedgeRectCallout">
            <a:avLst>
              <a:gd name="adj1" fmla="val -18902"/>
              <a:gd name="adj2" fmla="val -10942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4.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演習の目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職業の写真やイメージをみて、自分がどんな仕事を選択し、どんな仕事を選択しないか、という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特徴をつか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選択しない仕事、選択する仕事について、それぞれの理由を検討し、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自分の仕事への興味、関心、考え方について理解を深め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5.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実習前の準備と事前課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準備するもの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カード（参加者１人につき、１つずつ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カード活用の手引き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ページ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ページにある職業カード分析シー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事前課題：職業カード分析シートの一番上の欄に記入する（★セッションの前に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（「将来の進路について、現在考えていることを自由に書いてみましょう」の欄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6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．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カードの実施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773360"/>
            <a:ext cx="8642160" cy="4751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実施の流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全体の教示（説明書を参照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絵や写真の要素を見て、そこに描かれている仕事に興味を引かれるか否かが重要です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全体の分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分類の記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解釈１：「選択しない」セッショ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解釈２：「選択する」セッショ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6:21:15Z</dcterms:created>
  <dc:creator>室山 晴美</dc:creator>
  <dc:description/>
  <dc:language>en-US</dc:language>
  <cp:lastModifiedBy>izu</cp:lastModifiedBy>
  <dcterms:modified xsi:type="dcterms:W3CDTF">2015-04-06T08:07:17Z</dcterms:modified>
  <cp:revision>141</cp:revision>
  <dc:subject/>
  <dc:title>スライド 1</dc:title>
</cp:coreProperties>
</file>